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540-E937-40E2-BA54-5E7C639C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C9F-6BD7-4472-8629-FF8CA759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19E-F30B-4D02-A1E0-4486695A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E95-E26C-42D9-9AD5-DD5F1EA2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3823-A4DC-46D4-9755-AD6B7F89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ACD9-A70E-4F1D-8105-30260CE8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EF98-1E13-485D-B6EF-22CFE07F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B14D-E00E-421A-90B6-EF28028C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0F7B-4735-441C-98D6-E903F97D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049C-9CF5-48FD-A060-4C110948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D818-CB81-4852-9867-CB4D20F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9D5-6D15-4440-A855-565DCFA2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3F6D-EE04-4395-8E5C-B96121A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75A2-6E5B-46FC-BDE7-E7159EBF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D1C0-B45E-4078-90F9-95696AAF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73CB-C5CA-40A0-90C4-0A8852A4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25B8-9349-4CE0-9CD3-BA884FB3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D8B-4A22-4567-A904-015B3CA0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A54-786A-4C78-A90B-889420AA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DCF-1720-4C2D-9560-C683C43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8A3-CD43-4227-9B50-B50D3B77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AE2-5F6C-481B-B7A2-3231C45E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BA9-00BB-42E8-B0F5-5B1590F0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6C2-BE40-458C-B243-D775C819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EA37-0352-4FF2-9F26-AFD1B4427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B0A9-1F37-411C-9607-D9E342569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ommon Communicable Diseas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2667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2: Lesson 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accination Schedules p. 34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12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sson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ing Common Communicable Diseases p. 3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venting the Spread of Disea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ng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close contact with people who are 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 share eating utensils, dishes, or glasses with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h your hands of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your hands away from your mouth, nose, and e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cold and flu sufferers to cover their mouths and noses when they cough or snee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proper precautions against known dangers, follow safe practices in handling, preparing, and storing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gure 12.6 Washing Away Germs p. 34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tecting Oth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 medical treatment if you need it. Delaying a visit to the doctor can allow your condition to wors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 your mouth and nose when you cough or snee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re ill, stay home from school during the contagious period of the disease, and avoid close contact with other people. Wash your hands frequen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aking a prescribed medication, follow the directions carefully. Take all of the medication—don’t stop taking it just because you feel bet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other people to follow wise health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veloping a health lifestyle p. 34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a well-balanced, nutritious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 regula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an adequate amount of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hower or bath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use alcohol or other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sm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re that you are vaccinated against diseases for which vaccines ex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manage st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rsonal Inventory p. 34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o be done individ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in when comple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Bell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5334120"/>
            <a:ext cx="800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iefly explain how each item can help them avoid or treat communicable diseas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268596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28600" y="3505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62720" y="3352680"/>
            <a:ext cx="13572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Health Goal # 3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be aware of immunizations that protect health. P. 3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on Communicable Diseases p. 34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cold is the most comm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miss school more often because of colds than for nay other medical reason. Colds are also the most common reason for workers to miss days on the jo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verage, adults get at least two or three colds a year. Children and young adults get about two to three times as many colds as ad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are colds so commo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ason is that they are spread in several w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contact is a common means of spreading cold germs—touching objects or surfaces that someone with a cold has previously handled, and then touching your mouth, nose, or ey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also get cold germs through direct contact-shaking hands for ex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other reason colds are so comm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ds may be caused by hundreds of difference viru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why no vaccine has been develo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accine that would give you immunity to one cold virus would not protect you against all the other viruses. You would need a different vaccine for each on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 about the Flu p. 34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luenza – a communicable disease characterized by fever, chills, fatigue, headache, muscle aches, and respiratory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u usually begins more abruptly than a cold and lasts longer. The flu is spread by airborne germs as well as through direct and indirect cont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ther Communicable diseases p. 34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ken P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gure 12.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nucle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7:40:36Z</dcterms:created>
  <dc:creator>Hope Whiting</dc:creator>
  <dc:description/>
  <dc:language>en-US</dc:language>
  <cp:lastModifiedBy>Hope Whiting</cp:lastModifiedBy>
  <dcterms:modified xsi:type="dcterms:W3CDTF">2011-06-21T18:01:56Z</dcterms:modified>
  <cp:revision>3</cp:revision>
  <dc:subject/>
  <dc:title>Common Communicable Diseases</dc:title>
</cp:coreProperties>
</file>